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ct" ContentType="image/x-pict"/>
  <Override PartName="/ppt/media/image9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9B9-8F70-436C-BAA6-FCA462E9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A9D-1DF6-4783-9FD0-BB8A5510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748-905F-4E1C-BC8A-7BBB01B4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198-56A1-4E8D-8E12-E4AC1D5E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012A-CC79-4A8A-9A06-F3BC2485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A3D4-A99D-4901-92B8-6021A9D2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6F98-5F03-435A-A91A-C340B9A4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964-28D3-4200-AC14-B5F8F817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4ED0-3873-4B28-893B-F0EAC18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75DE-9838-482E-A419-6489577D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7261-A931-42C0-9E76-B889755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97C-AE8B-4825-818E-8E545DF6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1661-6BBA-4E5C-908B-2503952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8418-FB16-4193-B394-284725C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1E4F-44C2-4310-BC34-3336DE9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5CF3-1790-4749-A565-A229D5B7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A2D5-226E-45A1-BFF3-28188D14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C7B-A4CE-420C-84D3-7BB8699C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4A1-DB84-451E-BF76-C9CA06F9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0AB-DF51-4CB3-BFED-207EE21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D04-A2F3-4147-AC36-92A600C6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31B-7CE9-466D-AE29-3C43F74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CE1-8F55-407F-B537-40E6E6E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050-ED39-4041-8F28-698C4AC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AA13-CF52-41AE-AD40-A6C9803029BD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F6F8-0C2D-4C3A-9BF6-338EC11FE433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10000"/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ranscendentalism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Ralph Waldo Emerso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enry David Thoreau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alt Whitma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Literary Term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Aphorism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- a short statement of general truth or wisdom about life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Nonconformist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- one who does not follow generally accepted beliefs, customs or practic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neva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- brief nonfiction article that expresses an opinion on a subject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Henry David Thoreau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9807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tudent of Emerson’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onconformist who stood up for his belief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fluenced MLK Jr. 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ought the simple life in a cabin in M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fluenced abolitionists and led many rallies against slave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198108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at Walden Pond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elieved in leading a “simple” life, away from the hustle and bustle of our industrially advancing societ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elieved in living by his own values, not society’s materialistic valu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Conducted an “experiment” in which he lived in a cabin he built by hand for over 2 year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ept a journal detailing his thoughts and experiences, hoping to achieve personal growth and insight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Left the woods b/c he had more living to do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on Walden: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 went to the woods because I wished to live deliberately…and not, when I came to die, discover that I had not lived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 wanted to live deep and suck out all the marrow of life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Heaven is under our feet as well as over our heads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&amp; Voluntary Simplicity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fluenced many people seeking solitude who want to get away from technological &amp; material stresses and live uncluttered liv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ur life is frittered away by detail.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implicity, simplicity, simplicity!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 proportion as he simplifies his life, the laws of the universe will appear less complex, and solitude will not be solitude, nor poverty poverty, nor weakness weakness.”  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Do not trouble yourself much to get new things, whether clothes or friends.”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&amp; Nonconformity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 dedicated nonconformist, he went to jail for refusing to pay a tax which indirectly supported slaver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efused to wear Harvard uniform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efused to punish his students physically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surface of the earth is soft and impressible by the feet of men; and so with the paths which the mind travels.  How worn and dusty must be the highways of the word, how deep the ruts of tradition and conformity!”  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’s Motivational Words: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[Advance] confidently in the direction of [your] dreams…live the life which [you] have imagined, [and you will meet with success.]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f you have built castles in the air, your work need not be lost; that is where they should be.  Now put the foundations under them…”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on Living Life to the Fulles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 did not wish to take a cabin passage, but rather to go before the mast and on the deck of the world, for there I could best see the moonlight…I do not wish to go below now.”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’s Critic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ome criticize Thoreau because: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People make a big deal out of his night spent in jail, but it was only one night, and only because the warden had already gone home for the night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He wrote about experiences in the wild, when in fact he was only 1/2 mile from town, and he frequently visited &amp; dined with friend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Thoreau to Know: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ks by Thoreau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Civil Disobedienc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Walde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ds to Know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neva"/>
              </a:rPr>
              <a:t>Sublime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- noble, majestic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neva"/>
              </a:rPr>
              <a:t>Conscientious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- guided by conscience; hones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SzPct val="17988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eneva"/>
              </a:rPr>
              <a:t>Nature writing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 - a type of essay in which the writer uses firsthand observations to explore the mysteries of the human relationship with natur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ackground Informati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ranscendentalists: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Were Inspired by the rebellious spirit of American revolutionaries like Patrick Henry and Thomas Jefferson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Reflected a desire to break free from the strict principles of Puritanism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Believed in the power of nature and the human spirit, especially intuition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alt Whitma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etry was revolutionary; didn’t follow traditional “rules”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ny traditional writers and audiences found his poetry offensive because of the form and the conten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e was a patriot who loved to celebrate America and its peo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ks -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I Hear America Singing, Song of Myself,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 I Heard the Learn’d Astronomer, and I Sit and Look Ou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05440" y="1828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itman Toolbox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ords to Know: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(or structure) in poetry is the way a poem is organized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Conventional for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follows fixed rules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organic for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is irregular and mimics natural speech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Free vers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Organic form of poetry without regular patterns of rhyme and met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Repetition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recurrence of words, phrases or lin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Catalog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lists of people, things or qualiti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Parallelis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- related ideas are phrased in similar way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What is Transcendentalism?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 philosophy that stresses the following key ideas: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tu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lf-Relianc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586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ther beliefs: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ek renewal &amp; inspiration in natur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499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ople should follow their heart and not blindly follow society’s rul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Key Theme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Return to Nature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Desire to lead “The Simple Life”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Nonconformity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elebration of the Individua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Uniqueness of Every Human Being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Key Player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Ralph Waldo Emerso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enry David Thoreau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Walt Whitman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Ralph Waldo Emers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850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1803-1882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“Father” of the transcendentalist movemen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on of a minister, he  became one himsel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ike Poe, he suffered losses of loved on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SzPct val="1850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onsidered the spiritual voice of his gener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219320" y="1905120"/>
            <a:ext cx="319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Emerson’s “Self-Reliance”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8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is famous essay is full of “aphorisms,” or short statements expressing a general truth about life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SzPct val="158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Some memorable aphorisms: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SzPct val="149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o be great is to be misunderstood.”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SzPct val="149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nvy is ignorance; imitation is suicide.”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SzPct val="149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ust thyself; every heart vibrates to that iron string.”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More Aphorisms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foolish consistency is the hobgoblin of little minds.”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o be great is to be misunderstood.” 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Good men must not obey the laws too well.” 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More Aphorisms 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easy in the world to live after the world’s opinion; it is easy in solitude to live after our own; but the great man is he who in the midst of the crowd keeps with perfect sweetness the independence of solitude.” 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an you put this aphorism into your own words?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4:21:21Z</dcterms:created>
  <dc:creator>PA Department of Education</dc:creator>
  <dc:description/>
  <dc:language>en-US</dc:language>
  <cp:lastModifiedBy>PA Department of Education</cp:lastModifiedBy>
  <cp:lastPrinted>2007-05-04T15:31:16Z</cp:lastPrinted>
  <dcterms:modified xsi:type="dcterms:W3CDTF">2009-01-09T13:18:08Z</dcterms:modified>
  <cp:revision>26</cp:revision>
  <dc:subject/>
  <dc:title>Transcendentalism</dc:title>
</cp:coreProperties>
</file>